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EAD-AACD-4499-853F-064938BA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389-FD15-4E02-BEEC-217027ED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47F-3B5C-487E-8296-7AA13618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DD2-7782-43FE-B749-6975056B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48F-82D1-4835-A581-D4F3DBAB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777-8D6F-4A20-928F-C43B9D90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106-0BC0-43FA-AFA3-50A84B81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56F-7CE4-4223-8543-ECFB39E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925-064A-4455-AC11-44F98422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CBF-75C2-4EDC-8EA9-AC2B7902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3DB-2E72-44A4-B27E-1E15B6E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A31-A836-4D82-A0B8-783CA9C1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36BF-47B1-4791-8B9C-ADC281ABA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0 Či svojho bra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ážcom s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Tebou, Pane, k blížn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ť lásky môžem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ám síl sviežich skleslé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ochotný vždy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vzácny príklad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vnáša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tvoje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 jedno spáj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vojho brata stráž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iateľom vždy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d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v láske, svor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, Pane, silu na 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odvahu mi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rne blížnym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m pomáh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vojho brata strážcom s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ujem oň má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blížnemu vždy príkla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v láske nažíva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úzkosti a bô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zmieta sám a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inu na tom ne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álo oňho dbá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vojho brata stráž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iateľom vždy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d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v láske, svor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, Pane, silu na 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odvahu mi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rne blížnym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m pomá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ducha zmáha úna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trácam silu bdieť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eď úzkosť z nástrah tiesni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eľ v diaľke nevidie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Strážca najvernej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blízko pri mne 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viere mojej stál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novú vzb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vojho brata stráž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iateľom vždy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d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v láske, svor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, Pane, silu na 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odvahu mi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rne blížnym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m pomá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20:39:59Z</dcterms:modified>
  <cp:revision>20</cp:revision>
  <dc:subject/>
  <dc:title>Je veľký náš Pán, on slávy je Kráľ Nech do všetkých strán  spev vrúcnych znie chvál.</dc:title>
</cp:coreProperties>
</file>